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9D7-599C-4423-8A7B-F2FF823A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4BB-C1EC-4163-A4D0-5766B02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35B-79D7-4180-9D62-9C26735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766-9A82-49D4-9752-D90BBA33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7C3-C918-475B-A02E-FD6BCD4A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EC0-200D-4117-9764-B50A7C3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3B5-D15F-4144-9101-7A1BDEB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261-B0BB-4CFF-98F7-D6BAF88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3DF-7F07-40E3-A9A3-2FA9F3AF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84B-EB64-4917-90F8-56BD61F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4CD-2728-437A-B14C-2B895510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DE4-29E6-4BE1-B7A0-984C394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2AC8-35BE-4E46-82FF-71D1721B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Развитие регулятивных УУД на уро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 презент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вершина Татьяна Михайловна, 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БОУ Л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.Лешуко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оверь своё реш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лина ленты равна 18 метров. От ленты отрезали её шестую часть. Какую длину имеет оставшийся кус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2454120" cy="287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505320"/>
            <a:ext cx="6019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8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6 = 3 (м) – шест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8 – 3 = 15 (м) – оста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15 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960480" cy="1935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89532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9000" y="2057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знаю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105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еднамеренная оши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Оценива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360" y="1268280"/>
            <a:ext cx="540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я молодец, у меня сегодня всё получ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1484280"/>
            <a:ext cx="0" cy="453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1484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602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3716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157720"/>
            <a:ext cx="5473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ичего не получалось,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ем уроке я б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2997360"/>
            <a:ext cx="554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рался(лась), но у меня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Оценива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360" y="1268280"/>
            <a:ext cx="540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решил(а) без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484280"/>
            <a:ext cx="0" cy="453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484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602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3716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58972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смог(ла) ре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3213000"/>
            <a:ext cx="554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ил(а), но допустил(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Закончи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узнал, чт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научился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удалось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было трудно …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689120" cy="18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1801800" cy="23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49240" y="4921200"/>
            <a:ext cx="1443240" cy="193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71800" y="1143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 меня всё получалось, я моло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2767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Я старался, но не всё получ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300640"/>
            <a:ext cx="62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Я испытывал затрудн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не было ску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Покажите цве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оставим букетик для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825720" cy="541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43400" y="510552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математики по т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сколько раз больше или меньше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6"/>
          <p:cNvSpPr/>
          <p:nvPr/>
        </p:nvSpPr>
        <p:spPr>
          <a:xfrm>
            <a:off x="5867280" y="3276720"/>
            <a:ext cx="30862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Виды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универсальных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учебн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1295280" y="380880"/>
            <a:ext cx="678672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304920" y="327672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219320" y="5029200"/>
            <a:ext cx="2857320" cy="142884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4952880" y="5029200"/>
            <a:ext cx="2857680" cy="142884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 flipH="1">
            <a:off x="2805120" y="2562120"/>
            <a:ext cx="18842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 flipH="1">
            <a:off x="2647440" y="2562120"/>
            <a:ext cx="2041560" cy="245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4689360" y="2562120"/>
            <a:ext cx="1692360" cy="245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4689360" y="2562120"/>
            <a:ext cx="16304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8"/>
          <p:cNvSpPr/>
          <p:nvPr/>
        </p:nvSpPr>
        <p:spPr>
          <a:xfrm>
            <a:off x="5788080" y="380988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9"/>
          <p:cNvSpPr/>
          <p:nvPr/>
        </p:nvSpPr>
        <p:spPr>
          <a:xfrm>
            <a:off x="5014800" y="5562720"/>
            <a:ext cx="27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0"/>
          <p:cNvSpPr/>
          <p:nvPr/>
        </p:nvSpPr>
        <p:spPr>
          <a:xfrm>
            <a:off x="1508760" y="548640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1"/>
          <p:cNvSpPr/>
          <p:nvPr/>
        </p:nvSpPr>
        <p:spPr>
          <a:xfrm>
            <a:off x="684360" y="380988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Diagram 5"/>
          <p:cNvGrpSpPr/>
          <p:nvPr/>
        </p:nvGrpSpPr>
        <p:grpSpPr>
          <a:xfrm>
            <a:off x="310680" y="171000"/>
            <a:ext cx="8520840" cy="6272280"/>
            <a:chOff x="310680" y="171000"/>
            <a:chExt cx="8520840" cy="6272280"/>
          </a:xfrm>
        </p:grpSpPr>
        <p:sp>
          <p:nvSpPr>
            <p:cNvPr id="58" name="_s18436"/>
            <p:cNvSpPr/>
            <p:nvPr/>
          </p:nvSpPr>
          <p:spPr>
            <a:xfrm flipH="1" flipV="1">
              <a:off x="2875680" y="2414160"/>
              <a:ext cx="84708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8437"/>
            <p:cNvSpPr/>
            <p:nvPr/>
          </p:nvSpPr>
          <p:spPr>
            <a:xfrm>
              <a:off x="939240" y="109008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Сам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регуля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8438"/>
            <p:cNvSpPr/>
            <p:nvPr/>
          </p:nvSpPr>
          <p:spPr>
            <a:xfrm flipH="1">
              <a:off x="2459520" y="3607560"/>
              <a:ext cx="1053720" cy="1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8439"/>
            <p:cNvSpPr/>
            <p:nvPr/>
          </p:nvSpPr>
          <p:spPr>
            <a:xfrm>
              <a:off x="310680" y="3157200"/>
              <a:ext cx="217116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8440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8441"/>
            <p:cNvSpPr/>
            <p:nvPr/>
          </p:nvSpPr>
          <p:spPr>
            <a:xfrm>
              <a:off x="2076120" y="481428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оррек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8442"/>
            <p:cNvSpPr/>
            <p:nvPr/>
          </p:nvSpPr>
          <p:spPr>
            <a:xfrm>
              <a:off x="5041080" y="4159800"/>
              <a:ext cx="472680" cy="73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8443"/>
            <p:cNvSpPr/>
            <p:nvPr/>
          </p:nvSpPr>
          <p:spPr>
            <a:xfrm>
              <a:off x="4901400" y="4812120"/>
              <a:ext cx="217188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онтро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8444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8445"/>
            <p:cNvSpPr/>
            <p:nvPr/>
          </p:nvSpPr>
          <p:spPr>
            <a:xfrm>
              <a:off x="6660360" y="3155040"/>
              <a:ext cx="217116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</a:rPr>
                <a:t>Прогнози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</a:rPr>
                <a:t>ровани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6"/>
            <p:cNvSpPr/>
            <p:nvPr/>
          </p:nvSpPr>
          <p:spPr>
            <a:xfrm flipV="1">
              <a:off x="5419080" y="2412000"/>
              <a:ext cx="847080" cy="50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7"/>
            <p:cNvSpPr/>
            <p:nvPr/>
          </p:nvSpPr>
          <p:spPr>
            <a:xfrm>
              <a:off x="6031800" y="109008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План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о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8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9"/>
            <p:cNvSpPr/>
            <p:nvPr/>
          </p:nvSpPr>
          <p:spPr>
            <a:xfrm>
              <a:off x="3485880" y="17100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Целе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полаг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50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Times New Roman"/>
                </a:rPr>
                <a:t>Регулятивн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Решите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1                           5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1                           7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1                           3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лова – синонимы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нать, какие слова являются синони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иться находить синонимы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нироваться в редактировании предложений, используя слова-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оменяйте мес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поминаем то, что мы зн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няем новые знания, развиваем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аем проблему, открываем нов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Исправленный план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поминаем то, что мы зн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аем проблему, открываем нов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няем новые знания, развиваем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омним, что мы зн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проб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верим сделанные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ним полученн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очитай и реши задач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лина ленты равна 18 метров. От ленты отрезали её шестую часть. Какую длину имеет оставшийся кус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89880" y="3984480"/>
            <a:ext cx="24541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vlab</cp:lastModifiedBy>
  <dcterms:modified xsi:type="dcterms:W3CDTF">2014-10-02T04:57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